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AA2-7D62-4918-9B07-45EF2826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8DA-5E46-4435-B58B-7DFEE831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781-9B1C-420C-9AB6-90426ADB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001-BAF2-492D-9651-DE1214E9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3AE5-94D0-42ED-98C1-2BD6CFD0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296-7D3D-433B-99FE-57AAE8C6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2501-CA60-4B08-9C22-CF57267C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D659-0CA3-419C-B733-7E7DB264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44B6-C2C3-467D-BB1E-1F4FACAB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7B47-AF52-4D02-8DE5-D976522A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009E-F658-4B18-AA6C-83167E6D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D75-1867-4BD6-8EBA-A7F70A68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240C-AE07-4D0F-8A6E-9F3F18E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1463-E97D-4281-8DD5-035FBC82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27A0-FDB5-498A-8D7F-91F44A21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7488-1EE1-4F2D-934A-BC6F25EF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52D7-9044-42E7-8570-A776C9B4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EF3-E8DA-436A-96A4-3D94BBBF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267-A8E2-434C-A488-14AF4021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7C8-2C52-4C12-B257-37705AAB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A3E-26BE-4EA1-9C1F-47C22C46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87F-B8A2-4055-9BCD-F364737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387-E93D-4F0A-BA25-2085E756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D72-5907-488A-A8C7-DC2127B7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B67A-32E6-44F8-849E-3FBEDDEC330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542-D793-4A3D-B44A-FDD8DAC5F1F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systems and Living Organis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169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ethods of protection for pr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 defens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pines, thorns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xcretio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oxi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llelopathy (black walnut &amp; cherrybark oak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 defens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Fight or fligh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arning color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moflagu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oison gland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hells, herds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peti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e of common essential &amp; limited resour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traspecific competition –within a popul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terspecific competition – between popul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times subtle and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rganisms that compete may also benefit each oth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Ecological Nich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ducer, Consumer or Decompos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edator and/or pre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ymbiotic relationship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cological niche – Role in the ecosystem and in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habit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ich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81120" y="1142640"/>
            <a:ext cx="3962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undamental niche – Potential idealized nich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alized niche – Niche that an organism actually u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is difference is due to competitio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181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imiting Fact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y resource that restricts the ecological niche of an organism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ually sim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neral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alt concentration in wat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mount of precipi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raph p. 7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etitive Exclu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e species is excluded from part of a niche because of competition with another species (interspecific competition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two organisms can occupy the same nich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existence is possible if niches are reduced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ause stu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543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source partition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duction in competition for resources that occurs as a result of each species’ niche differing from the others in one or more way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92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pecies Divers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101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number of species present in a commun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gh diversity:  tropical rain forest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w diversity: isolated islands, mountaintop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munit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fferent populations of organisms that live and interact together in the same place at the same 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ary in siz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 true boundar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xample Rotting L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ganisms in Communities and Populations compete for resour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Schematic description of the terminological concept of bio-, geo- and ecodiversity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. Abundance of potential ecological nich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greater the complexity of the community, the more potential niches availabl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e niches available, the more organism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more organisms, the more divers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. Location at the margins of adjacent communit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ecies diversity is greater at the margins of adjacent commun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coton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A  transitional zone where two or more communities mee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dge effect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- The change in species composition at ecot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3. Geographical iso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more isolated the community, the less diverse it will b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not be readily replac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tain fewer potential nich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land biogeograph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4. Dominance of one species over ano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en one species uses more than its share of resour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t out competes other spec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angaroo rat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5. Environmental Str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more environmental stress, the less the species divers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olluted stream vs. clear stre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rban vs. rural are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6. Geological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older the community, the higher the species divers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laci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olcano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lan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tinental Drif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Correlation of North American vascular plants richness with environmental parameters"/>
          <p:cNvPicPr/>
          <p:nvPr/>
        </p:nvPicPr>
        <p:blipFill>
          <a:blip r:embed="rId1"/>
          <a:stretch/>
        </p:blipFill>
        <p:spPr>
          <a:xfrm>
            <a:off x="0" y="0"/>
            <a:ext cx="74674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system Servi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vided by the 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ean air, wa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ertile soi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more diverse an area, the better the ecosystem servi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munity Stabil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ability of a community to withstand environmental stresses and disturban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greater the species diversity, the more stable the community and the less important the speci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merican Chestnu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um of a community and the abiotic environm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.e many populations + soil, water, weather, terrain, etc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deer exclos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uccession: How Communities Chang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tages of community develop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onization and replace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ange in species diversity and abund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eads to climax vegetation and stability?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imary Succes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ioneer Commun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w soil/uninhabited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chens = break down rocks into soi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n mosses, ferns, grasses, shrubs, tre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condary Succes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fter major disturbance where plants once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ght seeded plants; shade intolerant; small, fast growing, highly reproductive plants and anim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imals undergo succession with plant commun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eystone Spec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pecies in an ecosystem that affects many other species so that it cannot be readily lost or replac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ually affect some type of resour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 not have to be high in numb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ample: gopher tortoise/wolves/panth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actions among organis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ymbios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sult of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o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ypes of symbiotic relationship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utualis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ichen (algae and fungu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mensalis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ray whale and barnac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arasitis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squito and hum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thogen = causes death and/or disea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actions among organis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Predatio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edator (larger, more complex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ey (might be plant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sult of Co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elective forc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sults of random mutatio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ethods of pred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ursui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mbu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1:53:46Z</dcterms:created>
  <dc:creator>Pace Academy</dc:creator>
  <dc:description/>
  <dc:language>en-US</dc:language>
  <cp:lastModifiedBy>Pace Academy</cp:lastModifiedBy>
  <dcterms:modified xsi:type="dcterms:W3CDTF">2007-09-18T15:59:40Z</dcterms:modified>
  <cp:revision>12</cp:revision>
  <dc:subject/>
  <dc:title>Ecosystems and Living Organisms</dc:title>
</cp:coreProperties>
</file>